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55FF-8395-4D82-8E58-E49CA0CFBA50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D21A-F22D-48F3-BB86-05E4DCABD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0B4B-E1AA-43AC-AABE-0AB462985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3B30-DADB-4461-8C3B-CADBF3E0F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0886-3E0F-4165-9E45-9A9075AEB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A82F-9922-402C-A58D-BF31A0D15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3856-C3BB-4D55-B178-D1C843D9E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6472-CBB4-4793-AF68-032834927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F3F7-8E0B-4A52-987D-2D2D38047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8660-E7BD-4723-972F-AF6790CA5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7B43-690F-45F2-9D93-726F9E9CA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4021-E4D9-431D-A223-A8B4DE1AA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E120-04C2-4552-A1DE-6C7AA8845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42E5-F99E-41A4-A74A-F9C9027CB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7C4B-B3C3-44CB-91FB-1C93D16DC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CA1C-338E-462F-B46B-CB4F4FDFC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1914-E6E9-4B66-B53B-8E0B1DDA7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0A46-C702-4847-846C-E43753945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4D6C-205F-453D-9DB5-81B61479E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04A9-4A43-4D56-89F0-135E09338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1AB3-385B-4E0B-B83E-0412C4160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B800-2FFD-4B6A-8AB1-9B004FCA3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D883-9DF7-4CE9-BCFA-957A35786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42BC-8025-4160-A796-CF949D2CD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582C-0D55-46DE-B450-BC243DED1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B81-C1DF-4021-A0F5-54D9B652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DAD-157E-4ACB-9C2D-56DA27A1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F3F21-69BB-4128-ACA7-5542F0DD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C9CBE-43C4-4125-BB6C-7BAA601F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562BF-750A-4F76-B063-66BF047A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BFAB3-E4A3-41CF-BBBF-035459F7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B44E4-D894-4F95-91C3-0514AF79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5FF7D-1D9B-4423-B752-E17BF4B0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7DBA9-9D6C-48E7-8B98-F31916D0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656D2-6265-4637-AA69-4A7F52B3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705DD-DD6A-45E5-8BEE-B16C7CA3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3DCFF-3499-468A-A3B8-3D5C6019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1E0-B767-4C3B-8938-076FAD30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40404-9BAC-4138-85FA-D92421AF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2E112-B52D-4991-BB73-99B4BC76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8450F-F58C-4017-9980-86ABEEE0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FCFF7-662F-4327-925C-F2DFE4F7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17C8E-0436-4B46-97F3-3B8A721F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7241A-9DD0-4E0B-8259-7D24E0B1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8FDF9-093A-4254-A6D9-1F4D6D27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C3673-2473-456A-ABBA-31136CC4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233C5-E975-42CA-8A39-67CD0FB5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95681-5977-403B-98F0-F9902211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51B-2A52-4781-AC0D-0F4D8334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050D0-7B23-44DD-A357-60025394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014A3-F18A-4B95-8528-B5320131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C0CF0-8A18-4DC4-BE48-C404CA82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35EE8-1D27-47D8-ABF0-61ADF8FA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429EB-655D-4905-BF88-95079B01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9C902-E9F7-4FB7-A11A-1E68F51D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0793A-02A7-41EA-BB22-1561D34E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3BA89-9F9C-467C-B82B-3968B2C6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05442-CB67-464F-9FE1-3BEA4773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9B67C-A226-4B21-BBD7-9569C42E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D501-BDA2-45F4-A2D3-38954570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159A7-8A3A-4290-8006-CF547DF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6BF63-5A7F-48F4-A23E-E3F17C56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56829-885B-4C75-9967-20B61630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0C5B7-3FFD-4ABD-9217-05FB4A1A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5B5B2-456D-4DF1-9989-383EEFB7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35016-73E3-4F2D-861E-506D4452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CF40D-BFD8-4A68-AE9D-D7C5B303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81F88-DB13-4894-8262-45D2C294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25293-C189-4ABF-8079-86B995B3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69A1B-B621-45CC-8D37-D1537769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83FF-36D1-411F-B207-B20E8997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B583A-E843-4AA7-A7CA-9EA8103C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CE6D3-FFAD-4525-8740-7897473B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5CD3D-4DD9-4A17-A8B6-B63EA499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1179C-E866-44D6-91E0-B67ADCCD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EE75E-458F-4B60-970D-24755EBE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A2F4B5-7944-4938-BEC0-B0749FC272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B79A76-71E3-44AB-9A96-72E09179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62D4AE-D859-41EE-92A4-867E2B02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E83599-09DF-42F9-98CA-40144356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0FB1FF-042C-4B42-87A0-4BE573BE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68A5-6BCE-4881-99C0-85225CEF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6FC631-3E45-46CE-A669-9B18AD49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41DDDB-849D-4519-8DB2-34ED0DA3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77B33E-1810-4275-A9DB-93AB3834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71099B-9376-4E14-9FB8-63CCFCF8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AE4862-0DB4-4633-9D3B-2A6F07AE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1CFE3B-7262-47D6-98E2-FEE8B671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5D3595-EFBE-4B0C-B51F-5888CB6EFA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3CC4-DA5C-4BC9-AD62-449005D1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1805-EF2E-41A3-9FD1-5FA38596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FDBC-C711-4EAE-87F0-434A121A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24D4-DE32-4032-9463-35FEBBE8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976-3F8C-47BB-9444-372229D1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A382-4DAD-4838-8F6E-B6B52A62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B022-62CC-4FE2-9CAF-0FF3565E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EC31-FAFA-44B1-B7C0-78656F1A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6A25-CE00-4DA5-9D29-83703F9F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D315-BBE3-44B1-A51F-09255FAA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2233-4B50-4458-82BA-4B799D27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FF63-A1BC-42B6-BC75-605D2B62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DE8E4-9731-451E-8158-7A4F8A17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76543-B403-4046-91D8-F45D9E0F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64709-1D18-449B-96AD-18409899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52D-351C-4616-AFF4-CCA3DDDE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5564-E874-4A55-BFE8-C4DD3BBD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50987-38CA-477A-9E9A-EE97F956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1748D-B4F8-4608-8230-979F37FC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0E31-0850-45C7-A7D0-EB975A5D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EE54-0F71-403A-8409-16B26052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FD88-E419-4961-969B-D1C610FE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3D6B-48B0-49A6-B4C5-E8BE6819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349A-038C-4A96-A424-5F65D6FF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8F5B3-1905-4313-A13E-480D2AD9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2FC94-1A22-4AA0-830D-AA24723C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683-CB77-4475-91C5-8B30946D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51D45-BB65-4D98-9A8A-39DFDBA2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9A133-BB2D-4D1B-9BC4-E31FF43B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30FD3-F074-4759-B46B-7233674A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BADA1-69D7-4329-B0E9-06D46148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57676-14D4-4895-A4A3-1689292A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FDE7A-BB5E-4398-B979-DA9F92D5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E596A-7DAF-4303-AD1A-462F6AB2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79C27-5EE9-4DB5-93B1-19B245D0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939A8-E990-4AC4-9335-4EE1322A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D21A8-E993-45AE-A6D1-0A6244F0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4E9-29EF-454E-95BB-608DFB70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0513C-1879-457E-82B2-119D74C6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8DADC-E5E5-4ACD-8330-8E9927AC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14B95-BC89-4C79-B87F-EBBC92B1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1F3AA-7A8E-40DE-82D8-8C101A3B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46F0C-A43A-454D-A165-CB0092A2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9299E-580B-4FAD-964B-612E83A8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AD209-62FC-4CF3-9310-AA4319A5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E55AC-AFC8-4F6A-A8E7-FF824ACD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58AB4-4968-4E02-82BF-7BF0CF0E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72FBA-14F5-4C95-811E-321E8B38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95B-8BEC-4533-B080-E8985100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D7C5E-CC62-4F36-92CD-D71B2F18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87BEF-1EDE-469D-B160-933F3598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B8635-A1F0-438D-93D5-3FCF142D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0D4A4-35FE-4166-82C1-5A3032FB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E5A2C-BA0C-4F66-B408-B5D20FC4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75037-D783-4C93-ABC8-09DA606E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4D00B-AAF9-4574-8E07-A3A22B76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6AC40-3C59-4B77-BC95-1CA765A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B8580-4DE5-4671-AF2E-5E31BF75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0F06D-B22D-4E0E-B4D1-5E926875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ECB-F04C-421F-A7C9-EB66ED9D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43F14-3C7D-4E32-8EE0-9922DB31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31CD2-2B4C-4B2B-9474-6064E6B5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75DAA-D96C-4F39-9CC3-A67E8553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45014-E0EF-4C06-93DA-872375B7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47041-0ADD-4DD2-9698-95BBEC3D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E2D79-E236-4AD9-86D5-B5C91615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1A7FF-5524-4309-9C33-6DF90D84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5136C-D3AC-4F85-B2A5-E445D347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E4F5F-2234-4FCF-AD95-DCB54E05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3F416-C2DB-4974-91B9-6397D618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6BD-1D51-4F37-881D-E188474C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2613D-38FE-4354-B243-29317EF8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4D4E1-94D6-4B55-96FB-99774696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837BD-D460-4AF4-B8E0-B984132C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DAE98-6F14-4393-9749-0D53445E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75EAF-CAC5-4367-AF94-93CB7774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E3B0F-1FDE-4A05-A1E5-38039665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C967E-728C-41E9-B02C-00B9D409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94BB0-3A8C-4F2E-A8C4-23F9AEA6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CCD08-1D4A-4E98-9A51-0E38DE8A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BBADB-9CB1-4F93-ACC0-FA599055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FEE-1816-457A-B220-7C052619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209DF-C2B0-4B53-88CE-65FB325D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31A4C-407D-4560-94CB-AA1E682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7A039-D915-4D71-90B2-7E7838F7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02ACB-F6D9-4CED-9F16-98CC661C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AC457-6A04-45D9-9599-98FA71D8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8D47F-51C2-4956-AA2C-6B86B318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4BD8B-C439-4223-91A0-130C93BD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D3948-ABC7-48F4-AA61-37B13D2C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EED6D-F5E5-4029-A831-9A3E35B4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1C7BD-FEC1-4FCA-8FBA-3082D1EC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4089-ED47-438E-9C15-9361D277077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D4DB-9635-4374-961F-934A92B62D0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609E-138F-4F12-8005-FDB3440E124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986C-44BE-4C9A-9C2A-51173765BEA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8EF3-E8D4-4BCC-873B-8452332D4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9B29-8556-4E1F-B509-ABB3A7E21EB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ED68-9318-4AC9-8ED5-8D60194F18B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CE9B-426F-4DEB-BEB7-B8034A5F3B9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6086-F604-42B6-B797-18A56F74FE3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C7B8-CE65-46D2-8570-DFFD4FC8124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4955-EE02-437B-A882-FE1ADFA4FB7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A195-4A61-40D3-B542-85FF87E949B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EA35-E24A-4F47-A75E-65130915540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Philip Whitaker (2007) μελέτησε τις στάσεις και τις απόψεις των γονέων απέναντι σ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ιδιά με αυτισμό τα οποία λαμβάνουν εκπαίδευση σε σχολεία γενικής εκπαίδευσης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αποτελέσματα της έρευνάς τους έδειξαν ότι οι περισσότεροι απ’ τους συμμετέχοντες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ικανοποιημένοι απ’ τη μέριμνα για την εκπαίδευση των παιδιών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στόσο τόσο οι ικανοποιημένοι γονείς όσο κι η ομάδα των γονέων που δεν ήτα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ιημένοι αναφέρθηκαν στην κατανόηση που το παιδί τους λαμβάνει απ’ το προσωπ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υ παρέχει τη μέριμνα και η κατανόηση του παιδιού τους ήταν υψίστης προτεραιότητ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τις δύο ομάδες. Οι ανησυχίες για το επίπεδο κατανόησης αποτελούσε σαφώς ενδεχόμεν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ηγή στρες και αγωνίας και για τις δύο ομάδ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492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εν φαίνεται να αναμένουν απ’ το προσωπικό της γενικής εκπαίδευσης να έχει εξειδικευμέν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νώσεις για συγκεκριμένες προσεγγίσεις στη διδασκαλία παιδιών με αυτισμό και εκτός απ’ 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θέλουν άμεση διδασκαλία για την ανάπτυξη κοινωνικών δεξιοτήτων, δεν φαίνοντ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ζητούν ουσιώδη τροποποίηση στη διδακτέα ύλη ώστε να ληφθούν υπόψη οι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ίζονται με τον αυτισμό των παιδι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, σε έρευνα των Turnbull et al. (2002) διαπιστώθηκε πως οι θετικές στάσεις απ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σοβαρές ειδικές ανάγκες απέναντι στην ένταξη φαίνεται να είναι 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νόνας.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Rectangle 1"/>
          <p:cNvSpPr/>
          <p:nvPr/>
        </p:nvSpPr>
        <p:spPr>
          <a:xfrm>
            <a:off x="0" y="162864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465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παράδειγμα, αρκετές μελέτες με γονείς παιδιών με σοβαρές ειδικές ανάγκες σ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γράμματα ένταξης από την προσχολική ηλικία έως και το Γυμνάσιο έδειξαν ότι οι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στήριζαν την τοποθέτηση των παιδιών τους σ’ αυτά και εξέφρασαν ικανοποίηση για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οτελέσματα της εκπαίδευσης, ιδιαίτερα για τα κοινωνικά οφέλη (Gallagher et al., 200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line &amp; Halvorsen, 1989; McDonell, 1987; Palmer, Borthwick-Duffy, &amp; Widaman, 199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φορικά με την ικανοποίηση των γονέων από τα εκπαιδευτικά προγράμματα παρέμβα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α παιδιά με ειδικές εκπαιδευτικές ανάγκες στην διεθνή βιβλιογραφία, παρατηρείται υψηλ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αθμός ικανοποίησης και διατυπώνονται θετικές στάσεις και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McNaughton,1994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William et all.,199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, σε έρευνα που πραγματοποιήθηκε στον Καναδά και μετρούσε τον βαθμ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ς των γονέων για τα προγράμματα παρέμβασης, οι γονείς εξέφρασαν μεγάλ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 και δήλωσαν αρκετά ευχαριστημένοι από το εκπαιδευτικό έργο που παρέχεται σ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είο του παιδιού τους ( Falbo et.all,20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 ,σε άλλη έρευνα, που μετρούσε την ικανοποίηση των γονέων σχετικά με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ιότητα των εκπαιδευτικών υπηρεσιών, βρέθηκε μεγάλος βαθμός ικανοποίησης ο οποί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δέεται με την αποτελεσματική επικοινωνία του σχολείου με τον γονέα ,καθώς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αρκή πληροφόρηση των ίδιων από τους εκπαιδευτικούς(Bailey et all., 2003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ην άλλη πλευρά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οι άλλοι ερευνητές ανέφεραν ότι μερικοί γονείς παιδιών με σοβαρές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άγκες δεν είναι υπέρ της ένταξ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Palmer, Fuller, Arora, &amp; Nelson, 2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ευνα που έγινε σε πολιτεία των ΗΠΑ (Mandell &amp; Salzer, 2007) έδειξε ότι οι γονείς παιδιώ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πιο σοβαρές αναπηρίες τα οποία συμμετείχαν σε τμήματα ένταξης, ανέφεραν αρνη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άσεις η εμπειρίες ως προς την τοποθέτηση των παιδιών τους, καθώς οι υπηρεσ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έχονταν τα παιδιά τους στο περιβάλλον γενικής εκπαίδευσης χαρακτηρίστηκαν αδύναμε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δόν ακατάλληλ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1760"/>
            <a:ext cx="7596000" cy="23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47636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556" name="10 - Ορθογώνιο"/>
          <p:cNvSpPr/>
          <p:nvPr/>
        </p:nvSpPr>
        <p:spPr>
          <a:xfrm>
            <a:off x="1332000" y="467532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ες ανησυχίες που αναφέρθηκαν από γονείς παιδιών με ειδικές εκπαιδευτικές ανάγκ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μπεριλαμβάνουν ανησυχίες για λεκτική και σωματική κακομεταχείριση από τα άλλα παιδιά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ή απομόνωση, και απώλεια ή μείωση των υπηρεσιών και της ποιότητα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ίδευσης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Donnell, 198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Rectangle 1"/>
          <p:cNvSpPr/>
          <p:nvPr/>
        </p:nvSpPr>
        <p:spPr>
          <a:xfrm>
            <a:off x="971640" y="1844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640" y="139212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Palmer et al. (2001) ανέφεραν ότι οι γονείς ανησυχούσαν ότι η σοβαρότητα της αναπηρίας του παιδιού τους εμπόδιζε τα οφέλη που θα μπορούσ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χαν από την ένταξη, ότι η ένταξη θα μπορούσε να εξουθενώσει τους εκπαιδευτικούς της γενικής εκπαίδευσης ή τους μαθητές, και ότι το παιδί συμπεριφορικά ήταν υπερβολικά διασπαστικό και θα μπορούσε να πληγώσει τους άλλ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όμοιες ανησυχίες από Αυστραλούς γονείς αναφέρθηκαν και από τον Jenkinson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 τις ανησυχίες που εξέφρασαν κάποιοι γονείς, σε έρευνα του Philip Whitaker (2007)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ωρήθηκε εξίσου σημαντικό για τους γονείς το γεγονός ότι το προσωπικό θα πρέπει να έχ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α αίσθηση για το τι βρίσκεται κάτω απ’ τις προκλήσεις και τις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ουσιάζονται για το παιδί αλλά και κάτω από τις εμπειρίες που αυτό βιώνε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Rectangle 1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49600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ίδια έρευνα, σημειώθηκε πως υψίστης προτεραιότητας για τους γονείς ήταν η ανάπτυ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ών δεξιοτήτων του παιδιού τ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ιαφοροποιούνταν επίσης ως προς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ιλοδοξίες τους σχετικά με την κοινωνική ανάπτυξη των παιδιών τους και τις σχέσεις τους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συνομηλίκους του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78920" y="981000"/>
            <a:ext cx="849636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ενικότερα, αν και υπάρχουν πολλά στοιχεία που αναφέρουν ότι οι στάσεις των γονέ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έναντι στην ένταξη καθορίζονται από διάφορους παράγοντες, δημογραφικά χαρακτηριστικ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κοινωνικοπολιτιστικά πλαίσια (Sigel et al., 1992)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Stoiber (1992) αναφέρει ότι οι στάσ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οι αντιλήψεις των γονέων παιδιών με ειδικές εκπαιδευτικές ανάγκες για την έντα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ήθως βασίζονται σε δικές τους προσωπικές εμπειρίες και τείνουν να χαρακτηρίζ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τικές και ικανοποιητικέ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4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63640" y="907560"/>
            <a:ext cx="75960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5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5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767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768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139212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όσο στην Ευρώπη όσο και στις ΗΠΑ κατά την τελευταία δεκαετία, η νομοθεσία έχει δώσ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μφαση στα δικαιώματα των γονέων ώστε αυτοί να εκφράζουν τις προτιμήσεις και τις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και να κάνουν επιλογές όσον αφορ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τύπο του σχολείου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μέριμνα που γίνεται για να διευθετηθούν οι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των παιδιώ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εμπειρίες των γονέων και οι αντιλήψεις τους για τ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νταξη  επηρεάζουν σημαντικά τη διαμόρφωση της μελλοντική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έριμνας για τα παιδιά με ειδικές εκπαιδευτικές ανάγκες και ιδιαίτερα την έκταση και τη φύσ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ιονδήποτε περαιτέρω κινήσεων προς την επίτευξη αποτελεσματικότερης ένταξ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παίζουν σημαντικό ρόλο στη διαδικασία της ένταξης. Σε πολλές χώρες ο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ρρυθμίσεις και οι κανονισμοί που αφορούν την ειδική εκπαίδευση παρέχουν οδηγίες γι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ενεργή εμπλοκή και συμμετοχή των γονέων στην εκπαίδευση των παιδιών τους ενώ κατ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 τελευταίες δύο δεκαετίες έχουν γίνει αρκετές μελέτες που εξετάζουν τις απόψεις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ησυχίες των γονέω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θεωρούνται οι πιο κατάλληλοι αξιολογητές τόσο της εκπαιδευτικής διαδικασίας όσο και των εκπαιδευτικών υπηρεσιών που δέχονται τα παιδιά τους από τους εκπαιδευτικούς γενικής και ειδικής εκπαίδευ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Jinnah&amp;Walters,2008). 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484280"/>
            <a:ext cx="7596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δοκίες και οι απαιτήσεις των γονέων ως προς την εκπαιδευτική δράση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υπηρεσίες που προσφέρονται στο παιδί τους, αποτελούν τον βασικότερ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α για μια επιτυχημένη εκπαιδευτική διαδικασία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τρέχοντας σε παλαιότερες βιβλιογραφικές αναφορές, έρευνες έχουν δείξει (McDonnell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987; Ryndak, Downing, Jacqueline &amp; Morisson, 1995) πως οι γονείς παιδιών με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διατυπώνουν γενικά θετικές απόψεις και αντιλήψεις προς την ένταξη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σχετικά πρόσφατη έρευνα που πραγματοποιήθηκε από τους Leyser and Kirk (2004) βρήκ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ψηλότερα ποσοστά υποστήριξης από τους γονείς παιδιών με ήπιες αναπηρίες σε σύγκριση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βαριάς μορφής αναπηρί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1-02-18T21:56:57Z</dcterms:modified>
  <cp:revision>151</cp:revision>
  <dc:subject/>
  <dc:title>Παρουσίαση του PowerPoint</dc:title>
</cp:coreProperties>
</file>